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A2C-8725-41C3-B575-B544C82B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8AE-48E9-48AC-A664-56EA7E39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DD2-EA3D-44F3-8580-7A348E10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647-419D-4578-ABF2-451BB5C8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7364-D613-4D2D-9E6D-18EC3C86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9EE5-F657-4D95-9BF7-22DAD4C8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3654-2E3F-47BE-A097-33DC3A6B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5416-0979-4707-B023-B2F91CA2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454C-B5FC-4AB4-987C-27ED7096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77EE-A42E-475F-97C4-9E8D01B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92A0-B104-4A47-BE98-02B225A3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1DD-5538-4590-9523-B181D60B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C280-7597-4A03-887F-4BA76325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3A82-5FF9-4592-8679-D9FF275C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E577-7BB0-4FEA-AE12-6AE9991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87F4-6569-4C71-A142-888513F5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5DB8-86D3-452D-A31A-C54F5ED7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592-BAF9-48A4-96A1-2D5B6477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CA3-BD35-48B5-80C0-94A4FFA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87D-4F00-440F-AFBF-98533334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E81-B12B-406B-9FFC-822D94EB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E7F-3CE4-4B83-A499-E6BBC313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090-E6A4-4811-AD0B-B13B154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5B0-491A-4891-9DC3-4C17300F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DE01-BF20-44D4-9BF6-49B6B6CC60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AAFC-204D-450B-A64E-4259814F1F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82560" y="341280"/>
            <a:ext cx="7785000" cy="32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1640" y="3090600"/>
            <a:ext cx="4483080" cy="66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МК Габриелян О.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44600" y="103320"/>
            <a:ext cx="8102520" cy="110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84040" y="846000"/>
          <a:ext cx="8694720" cy="4276800"/>
        </p:xfrm>
        <a:graphic>
          <a:graphicData uri="http://schemas.openxmlformats.org/drawingml/2006/table">
            <a:tbl>
              <a:tblPr/>
              <a:tblGrid>
                <a:gridCol w="495360"/>
                <a:gridCol w="3355920"/>
                <a:gridCol w="2482920"/>
                <a:gridCol w="2360520"/>
              </a:tblGrid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Параметры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Мет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мет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 табли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мный радиус (какой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электронов на внешнем уров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в таблице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упп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 группа главных подгрупп, побочные подгруппы 4-8 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ат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ое, жидкое (рту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ая пали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большинства серебристо-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 пл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высо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ристаллической решё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окис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646200" y="-6480"/>
            <a:ext cx="7900920" cy="74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16000" y="587520"/>
          <a:ext cx="8764560" cy="4767120"/>
        </p:xfrm>
        <a:graphic>
          <a:graphicData uri="http://schemas.openxmlformats.org/drawingml/2006/table">
            <a:tbl>
              <a:tblPr/>
              <a:tblGrid>
                <a:gridCol w="498240"/>
                <a:gridCol w="3021120"/>
                <a:gridCol w="2587680"/>
                <a:gridCol w="2657520"/>
              </a:tblGrid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f6fc6"/>
                          </a:solidFill>
                          <a:latin typeface="Times New Roman"/>
                          <a:ea typeface="Times New Roman"/>
                        </a:rPr>
                        <a:t>Параметры срав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f6fc6"/>
                          </a:solidFill>
                          <a:latin typeface="Times New Roman"/>
                          <a:ea typeface="Times New Roman"/>
                        </a:rPr>
                        <a:t>Мет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мет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 табли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мный радиус (какой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ен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электронов на внешнем уров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-8 (водород – 1, бор –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в таблице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упп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 группа главных подгрупп, побочные подгруппы 4-8 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8 группа главные под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ат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ое, жидкое (рту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ое, жидкое (бром), газообраз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ая пали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большинства серебристо-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 пл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высо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ристаллической решё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мная и молекуляр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окис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и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ислители и восстанов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622440" y="201600"/>
            <a:ext cx="789912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ение неметаллов в ПСХ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строения атомов, простых веществ-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ие свойства 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ие свойства 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чение 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633240" y="146160"/>
            <a:ext cx="7901280" cy="122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50880" y="953640"/>
            <a:ext cx="808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76360" y="1816200"/>
          <a:ext cx="5961240" cy="1214280"/>
        </p:xfrm>
        <a:graphic>
          <a:graphicData uri="http://schemas.openxmlformats.org/drawingml/2006/table">
            <a:tbl>
              <a:tblPr/>
              <a:tblGrid>
                <a:gridCol w="1192320"/>
                <a:gridCol w="1191960"/>
                <a:gridCol w="1192320"/>
                <a:gridCol w="1192320"/>
                <a:gridCol w="119232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424160" y="3579840"/>
          <a:ext cx="6235560" cy="1157400"/>
        </p:xfrm>
        <a:graphic>
          <a:graphicData uri="http://schemas.openxmlformats.org/drawingml/2006/table">
            <a:tbl>
              <a:tblPr/>
              <a:tblGrid>
                <a:gridCol w="1245960"/>
                <a:gridCol w="1247760"/>
                <a:gridCol w="1247760"/>
                <a:gridCol w="1246320"/>
                <a:gridCol w="1247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512640" y="811080"/>
            <a:ext cx="8070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82520" y="2251080"/>
          <a:ext cx="8791560" cy="1425600"/>
        </p:xfrm>
        <a:graphic>
          <a:graphicData uri="http://schemas.openxmlformats.org/drawingml/2006/table">
            <a:tbl>
              <a:tblPr/>
              <a:tblGrid>
                <a:gridCol w="803160"/>
                <a:gridCol w="804960"/>
                <a:gridCol w="803160"/>
                <a:gridCol w="803520"/>
                <a:gridCol w="804960"/>
                <a:gridCol w="801360"/>
                <a:gridCol w="874800"/>
                <a:gridCol w="819360"/>
                <a:gridCol w="734760"/>
                <a:gridCol w="771480"/>
                <a:gridCol w="770040"/>
              </a:tblGrid>
              <a:tr h="142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(2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Прямоугольник 5" descr=""/>
          <p:cNvPicPr/>
          <p:nvPr/>
        </p:nvPicPr>
        <p:blipFill>
          <a:blip r:embed="rId1"/>
          <a:stretch/>
        </p:blipFill>
        <p:spPr>
          <a:xfrm>
            <a:off x="5175360" y="152280"/>
            <a:ext cx="31939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66560" y="853920"/>
          <a:ext cx="8272800" cy="2851200"/>
        </p:xfrm>
        <a:graphic>
          <a:graphicData uri="http://schemas.openxmlformats.org/drawingml/2006/table">
            <a:tbl>
              <a:tblPr/>
              <a:tblGrid>
                <a:gridCol w="755640"/>
                <a:gridCol w="757440"/>
                <a:gridCol w="755640"/>
                <a:gridCol w="755640"/>
                <a:gridCol w="757080"/>
                <a:gridCol w="755640"/>
                <a:gridCol w="712800"/>
                <a:gridCol w="755640"/>
                <a:gridCol w="755640"/>
                <a:gridCol w="755640"/>
                <a:gridCol w="756000"/>
              </a:tblGrid>
              <a:tr h="142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(2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689040" y="1395360"/>
            <a:ext cx="79009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kos_zhizn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s://chemical-elements.ru/upload/iblock/66e/66e48a5033664f997f13b8abe0bdbcad.png"/>
          <p:cNvPicPr/>
          <p:nvPr/>
        </p:nvPicPr>
        <p:blipFill>
          <a:blip r:embed="rId1"/>
          <a:stretch/>
        </p:blipFill>
        <p:spPr>
          <a:xfrm>
            <a:off x="450720" y="138240"/>
            <a:ext cx="23814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s://us.123rf.com/450wm/conceptw/conceptw1710/conceptw171000037/89091456-carbon-element-from-the-periodic-table-metallic-icon-3d-rendered-on-white-background.jpg?ver=6"/>
          <p:cNvPicPr/>
          <p:nvPr/>
        </p:nvPicPr>
        <p:blipFill>
          <a:blip r:embed="rId2"/>
          <a:stretch/>
        </p:blipFill>
        <p:spPr>
          <a:xfrm>
            <a:off x="2808360" y="216000"/>
            <a:ext cx="3689280" cy="277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s://chemical-elements.ru/upload/iblock/ae7/ae766854cb0594ecb7d2f8baed9e7841.png"/>
          <p:cNvPicPr/>
          <p:nvPr/>
        </p:nvPicPr>
        <p:blipFill>
          <a:blip r:embed="rId3"/>
          <a:stretch/>
        </p:blipFill>
        <p:spPr>
          <a:xfrm>
            <a:off x="6299280" y="18900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s://chemical-elements.ru/upload/iblock/614/614df73fdf1a6fd0325877235c376203.png"/>
          <p:cNvPicPr/>
          <p:nvPr/>
        </p:nvPicPr>
        <p:blipFill>
          <a:blip r:embed="rId4"/>
          <a:stretch/>
        </p:blipFill>
        <p:spPr>
          <a:xfrm>
            <a:off x="3462480" y="2957400"/>
            <a:ext cx="238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4" descr="photo.jpg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689040" y="476280"/>
            <a:ext cx="8107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42880" y="12380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общить и расширить знания о неметаллах как элементах и простых веществ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622440" y="201600"/>
            <a:ext cx="789912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ение неметаллов в ПСХ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строения атомов, простых веществ-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ие свойства 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ие свойства 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чение 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469800" y="487440"/>
            <a:ext cx="83138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622440" y="360360"/>
            <a:ext cx="7899120" cy="1627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и защита прое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олнение табл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Выгнутая вправо стрелка 3"/>
          <p:cNvSpPr/>
          <p:nvPr/>
        </p:nvSpPr>
        <p:spPr>
          <a:xfrm>
            <a:off x="5504040" y="2027160"/>
            <a:ext cx="1560240" cy="2459160"/>
          </a:xfrm>
          <a:custGeom>
            <a:avLst/>
            <a:gdLst>
              <a:gd name="textAreaLeft" fmla="*/ 208800 w 1560240"/>
              <a:gd name="textAreaRight" fmla="*/ 1351440 w 1560240"/>
              <a:gd name="textAreaTop" fmla="*/ 468360 h 2459160"/>
              <a:gd name="textAreaBottom" fmla="*/ 1795680 h 245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30" stAng="-5400000" swAng="5400000"/>
                <a:lnTo>
                  <a:pt x="21600" y="11656"/>
                </a:lnTo>
                <a:arcTo wR="21600" hR="8230" stAng="0" swAng="3352578"/>
                <a:lnTo>
                  <a:pt x="5400" y="21339"/>
                </a:lnTo>
                <a:lnTo>
                  <a:pt x="0" y="18173"/>
                </a:lnTo>
                <a:lnTo>
                  <a:pt x="5400" y="14485"/>
                </a:lnTo>
                <a:lnTo>
                  <a:pt x="5400" y="16199"/>
                </a:lnTo>
                <a:arcTo wR="21600" hR="8230" stAng="3352578" swAng="-3074449"/>
                <a:lnTo>
                  <a:pt x="21127" y="9943"/>
                </a:lnTo>
                <a:arcTo wR="21600" hR="8230" stAng="-278129" swAng="-5121871"/>
                <a:close/>
              </a:path>
              <a:path fill="darkenLess" w="21600" h="21600">
                <a:moveTo>
                  <a:pt x="0" y="0"/>
                </a:moveTo>
                <a:arcTo wR="21600" hR="8230" stAng="-5400000" swAng="5400000"/>
                <a:lnTo>
                  <a:pt x="21600" y="11656"/>
                </a:lnTo>
                <a:arcTo wR="21600" hR="8230" stAng="0" swAng="-278129"/>
                <a:lnTo>
                  <a:pt x="21127" y="9943"/>
                </a:lnTo>
                <a:arcTo wR="21600" hR="8230" stAng="-278129" swAng="-5121871"/>
                <a:close/>
              </a:path>
            </a:pathLst>
          </a:custGeom>
          <a:solidFill>
            <a:srgbClr val="0f6fc6"/>
          </a:solidFill>
          <a:ln w="1584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09:45:24Z</dcterms:created>
  <dc:creator>Dmytro</dc:creator>
  <dc:description/>
  <dc:language>en-US</dc:language>
  <cp:lastModifiedBy>mshte</cp:lastModifiedBy>
  <dcterms:modified xsi:type="dcterms:W3CDTF">2020-12-02T09:41:12Z</dcterms:modified>
  <cp:revision>44</cp:revision>
  <dc:subject/>
  <dc:title>Название презентации</dc:title>
</cp:coreProperties>
</file>